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042-4882-4371-87AD-440442BC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973-5E78-4B12-9C92-727DC71F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CB3-A2BA-4733-8055-83D8FCD9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442-9B2D-46C4-BE9E-CFB2F9F0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D091-C344-4CFF-B148-A90D447D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CCB5-FD9D-4ACC-8A63-1A3D7666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836-B60F-42D1-8287-220A83CE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18F6-59AD-4CB9-B675-C13E3639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7BA6-E98E-41C0-810D-54056E8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D6A5-940D-4323-982E-C81C92E6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E965-4FF5-4016-8FC7-31A79189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379-E0B6-4A18-BCF9-C383F19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960-48FF-4B1C-A19C-9796F56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9130-2A13-4180-91B8-070A41A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BC49-4C0B-4A2B-97C7-DF033598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3E78-0205-4FAC-A6D0-C391C50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986-B973-405D-9553-8DF5EFF0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2E1-6EF0-444E-AF46-DBFF23B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22F-44D2-4988-A285-0416769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F00-E3E7-42D2-BD82-A907367B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E1D-7B1B-4B30-865F-EDCC6F65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E2F-BD48-432F-9ACC-A6AAEB5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80C-9C8C-4639-B4C3-EEA70DE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258-9EF1-47C3-94F2-3A81804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FFE5-A104-4707-958F-5B31CAC887A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A77-CF7B-4934-BBF1-91C58B58C995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ирование ИК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54561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нисова Е. Н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9138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852640"/>
            <a:ext cx="8102520" cy="151308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Правовая форма, учредители и органы управления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55736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униципальное бюджетное учрежд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276640"/>
            <a:ext cx="79200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Учредитель:   Орган местного самоуправл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068640"/>
            <a:ext cx="3816360" cy="3682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дминистрация район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645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  СКЦ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Устав СКЦ (основные положения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557360"/>
            <a:ext cx="7920000" cy="100872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ельский консультационный центр создается с целью технической поддержки развития сельского бизнеса, повышения занятости и доходов сельского насел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2781360"/>
            <a:ext cx="801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Задачи СКЦ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повышение эффективности и устойчивости функционирования сельскохозяйственных организаций всех форм собственности на основе оперативного внедрения достижений научно-технического прогресса, передового производственного опыта, доведения до хозяйствующих субъектов научной технологической и рыночной информаци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информационно-консультационное обслуживание сельских товаропроизводителей всех форм собствен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- создание и развитие современной инфраструктуры для решения задач продовольственного и материально-технического обеспечения сельских товаропроизводителей с использованием единого информационного пространства на базе Интернет – порт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981000"/>
            <a:ext cx="801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92929"/>
                </a:solidFill>
                <a:uFillTx/>
                <a:latin typeface="Arial"/>
              </a:rPr>
              <a:t>Виды деятельност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Создание клиентской базы данных о хозяйствах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Организация испытаний и адаптации новшеств в районе (организация 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5. Консультационная деятельность с охватом хозяйст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6. Отработка технологии применения биостимуляторов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7. Создание базы данных по племенному учет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Менеджмент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1. Правовое обеспечени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2. Консультация  по ведению бухгалтерской и экономической отчетности КФХ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КЦ  имеет право осуществлять свою деятельность на коммерческой основ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66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уководитель СКЦ назначается Главой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КЦ создается и ликвидируется на основании Постановления Главы Администрации райо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1168560"/>
            <a:ext cx="4660920" cy="521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981000"/>
            <a:ext cx="80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Затраты на создание и содержание СКЦ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769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9480" y="1360440"/>
            <a:ext cx="80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Создание клиентской базы данных о хозяйствах район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 Организация испытаний и адаптации новшеств в районе (организация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опытных участков на базе  хозяйств  района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71640" y="2565360"/>
          <a:ext cx="7704000" cy="609480"/>
        </p:xfrm>
        <a:graphic>
          <a:graphicData uri="http://schemas.openxmlformats.org/drawingml/2006/table">
            <a:tbl>
              <a:tblPr/>
              <a:tblGrid>
                <a:gridCol w="3240000"/>
                <a:gridCol w="1511280"/>
                <a:gridCol w="1657080"/>
                <a:gridCol w="12956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-во опытных участков 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(с новыми сорта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900000" y="328464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 Организация опытно-демонстрационной дея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3716280"/>
          <a:ext cx="7704000" cy="83196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опытно-демонстрационны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участков (с разными удобрениями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971640" y="479736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 Обучающие семинар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5214960"/>
          <a:ext cx="7704000" cy="1219320"/>
        </p:xfrm>
        <a:graphic>
          <a:graphicData uri="http://schemas.openxmlformats.org/drawingml/2006/table">
            <a:tbl>
              <a:tblPr/>
              <a:tblGrid>
                <a:gridCol w="3240000"/>
                <a:gridCol w="1512720"/>
                <a:gridCol w="1584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КФХ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0" y="14320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8. Организация искусственного осеменен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42920" y="1844640"/>
          <a:ext cx="7632720" cy="98604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Муниципальные образования (для ЛПХ)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044360" y="314172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9. Улучшение кормовой базы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2920" y="3645000"/>
          <a:ext cx="7632720" cy="609480"/>
        </p:xfrm>
        <a:graphic>
          <a:graphicData uri="http://schemas.openxmlformats.org/drawingml/2006/table">
            <a:tbl>
              <a:tblPr/>
              <a:tblGrid>
                <a:gridCol w="410544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00" y="4941720"/>
          <a:ext cx="7559640" cy="609840"/>
        </p:xfrm>
        <a:graphic>
          <a:graphicData uri="http://schemas.openxmlformats.org/drawingml/2006/table">
            <a:tbl>
              <a:tblPr/>
              <a:tblGrid>
                <a:gridCol w="4032360"/>
                <a:gridCol w="1224000"/>
                <a:gridCol w="1224000"/>
                <a:gridCol w="1079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09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0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2011 г.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Сельхозпредприятия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73800" y="45086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. Управление оборотом стад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83664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грамма инновационной деятельности сельского консультационного центр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08000" y="765000"/>
          <a:ext cx="47484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47484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907920"/>
            <a:ext cx="78692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Для дальнейшего развития сельской консультационной деятельности в субъекте РФ предлагается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оздать региональный научно-методический центр (НМЦ) сельского консультирования, который будет обеспечивать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Научно-методическую поддержку инновационной деятельности СКЦ с ведением опытно-демонстрационной деятельности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Адаптировать новшества под условия хозяйствования в агроклиматических условиях субъекта РФ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формировать на базе этого НМЦ координационный совет по технической поддержке сельского развития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Обеспечивать информационную поддержку сельского развития (работа со СМИ, выпуск журнала и т.п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8244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тношения СКЦ с Региональным НМЦ выстраиваются на договорной основе (возможно СКЦ частично оплачивают услуги НМЦ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32920" y="33336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систем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16000" y="907920"/>
          <a:ext cx="7488360" cy="55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48836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32000" y="1197000"/>
          <a:ext cx="720072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720072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209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5040" y="33336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135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3645000"/>
            <a:ext cx="8102520" cy="25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Правовая форма, учредители и органы управле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268280"/>
            <a:ext cx="662472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Автономная некоммерческая организация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700280"/>
            <a:ext cx="7920000" cy="173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Учредител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рестьянских фермерских хозяйств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20%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20%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(?) – 20%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7848720" cy="1739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бщее собрание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ассоциация КФХ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ассоциация сельхозтоваропроизводителей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льскохозяйственная академия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органы управления субъекта РФ – 1 представител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ИИ сельского хозяйства региона  –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 представител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5661000"/>
            <a:ext cx="4608360" cy="368280"/>
          </a:xfrm>
          <a:prstGeom prst="rect">
            <a:avLst/>
          </a:prstGeom>
          <a:solidFill>
            <a:srgbClr val="f7f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 и задачи организаци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Цели: Содействие в устойчивом развитии сельских территор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адачи: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ое и консультационное обеспечение сельских товаропроизводителей и сельского нас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иды и направления деятельности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Информационная поддержка сельского населения, сельского бизнеса и иных субъектов сельских территорий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Масштабная инновационная деятельность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бучающая поддержка сельского населения и представителей сельского бизнеса, местного самоуправления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ыполнение консультационных проектов в интересах субъектов сельского бизнес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ропогандистско-агитационная деятельн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Организационно-координационная деятельность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9138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4360" cy="4365720"/>
          </a:xfrm>
          <a:prstGeom prst="rect">
            <a:avLst/>
          </a:prstGeom>
          <a:gradFill rotWithShape="0">
            <a:gsLst>
              <a:gs pos="0">
                <a:srgbClr val="525252">
                  <a:alpha val="50196"/>
                </a:srgbClr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765000"/>
            <a:ext cx="8497800" cy="7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594513"/>
              </a:gs>
            </a:gsLst>
            <a:lin ang="10800000"/>
          </a:gra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4000" y="907560"/>
            <a:ext cx="7127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Фрагмент программы развития деятельности СКО на 2009-2010 гг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Verdana"/>
              </a:rPr>
              <a:t>Региональная сельская консультационная 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30480" y="1628640"/>
            <a:ext cx="7913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4:05Z</dcterms:created>
  <dc:creator>123</dc:creator>
  <dc:description/>
  <dc:language>en-US</dc:language>
  <cp:lastModifiedBy>Delen</cp:lastModifiedBy>
  <dcterms:modified xsi:type="dcterms:W3CDTF">2008-12-10T14:59:16Z</dcterms:modified>
  <cp:revision>30</cp:revision>
  <dc:subject/>
  <dc:title/>
</cp:coreProperties>
</file>